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3E8-4A4B-4D5A-9F7A-16576A50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20A-0781-429E-A48D-7F0C511D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C01-6050-42E2-9F88-A83B31CA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B98-AA1F-45ED-8939-CA3918C1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1A-6CF4-453B-AFD8-72B89455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312-DD5F-4D23-AC47-C0677A4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4D3-86D0-4418-A298-43E9C3E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E07-0A21-4A66-9BD8-2BA1EAE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880-B12E-4286-B748-69176029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699-296F-4122-84BF-4E364104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945-A06E-47A3-AB26-78A61C4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F60-310F-4EB2-A4F0-680C069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337-7E42-4CDD-A7CB-70838A05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1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 es una charre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mingo, día 18 de febrer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2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ltura en V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pter 8: Cultura en Vivo ¡Viva Mex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dcterms:modified xsi:type="dcterms:W3CDTF">2013-01-11T14:56:49Z</dcterms:modified>
  <cp:revision>12</cp:revision>
  <dc:subject/>
  <dc:title>Me llamo ________ Clase 8im La fecha es el 8 de enero del 2013</dc:title>
</cp:coreProperties>
</file>